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37AA-153B-47CC-A574-1B73BC761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D1D7-B34E-468E-B4BF-AA44AE60B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AF34-1134-4170-9F67-FE6CAE14D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E80B-4F85-4636-BFB1-665D43DBCF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0347-9B12-45F2-B38A-450A690675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B0A0-FB60-4025-9983-E77A708BC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E9DF-9285-4BB8-8CD4-FD402C16F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B971-3041-420D-8371-67977F9B5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B009-8206-470E-97FC-E16493F30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249D-A70D-4C61-9A4D-BC6961995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1E92-065F-47E7-A39C-99E3703DD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01B2-70E8-4D27-8D5D-3431A07FD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.3-</a:t>
            </a:r>
            <a:fld id="{3C128104-2191-4FFA-9B66-2B2AA96457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815652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ción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ou learned about present participl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udian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Both Spanish and English have past participles. The past participles of English verbs often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turn </a:t>
            </a:r>
            <a:r>
              <a:rPr b="0" lang="en-US" sz="2800" spc="-1" strike="noStrike">
                <a:solidFill>
                  <a:srgbClr val="0080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ur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but many are also irregula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uy </a:t>
            </a:r>
            <a:r>
              <a:rPr b="0" lang="en-US" sz="2800" spc="-1" strike="noStrike">
                <a:solidFill>
                  <a:srgbClr val="0080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ou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rive </a:t>
            </a:r>
            <a:r>
              <a:rPr b="0" lang="en-US" sz="2800" spc="-1" strike="noStrike">
                <a:solidFill>
                  <a:srgbClr val="0080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ri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609560"/>
            <a:ext cx="1676520" cy="5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5760-B2D0-45A0-9072-F2156F9462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82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, regul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 form the past participle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Regul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i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 form the past participle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13000" y="3238560"/>
            <a:ext cx="6316560" cy="177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2627-E56B-406E-8035-5CA602C176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82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¡Atención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ast participl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whose stems e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a written accent mark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85880" y="4245120"/>
            <a:ext cx="5772240" cy="22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859040" y="2949480"/>
            <a:ext cx="5387760" cy="120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E76A-1D39-4FA0-B3D3-FD99830556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0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, as in English, past participles can be used as adjectives. They are often used with the verb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scribe a condition or state that results from an action. Like other Spanish adjectives, they must agree in gender and number with the nouns they mod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4564080"/>
            <a:ext cx="7315200" cy="12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189C-56D9-494F-B0CB-718883B023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1640" y="1424160"/>
            <a:ext cx="2148120" cy="55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514440" y="2179800"/>
          <a:ext cx="8066160" cy="3249360"/>
        </p:xfrm>
        <a:graphic>
          <a:graphicData uri="http://schemas.openxmlformats.org/drawingml/2006/table">
            <a:tbl>
              <a:tblPr/>
              <a:tblGrid>
                <a:gridCol w="2689200"/>
                <a:gridCol w="2687400"/>
                <a:gridCol w="2689560"/>
              </a:tblGrid>
              <a:tr h="1097640">
                <a:tc gridSpan="3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la forma correcta del participio pasado de estos verb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260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hablar 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beb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decidi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romp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scribi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canta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í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tra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 correr 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le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v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spcBef>
                          <a:spcPts val="901"/>
                        </a:spcBef>
                        <a:tabLst>
                          <a:tab algn="l" pos="0"/>
                          <a:tab algn="l" pos="347760"/>
                          <a:tab algn="l" pos="4224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hacer 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848240" y="3395520"/>
            <a:ext cx="1262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ff"/>
                </a:solidFill>
                <a:latin typeface="Comic Sans MS"/>
              </a:rPr>
              <a:t>habl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0BBB-5974-419D-B1A7-7A47AE78FB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7:43:27Z</dcterms:modified>
  <cp:revision>74</cp:revision>
  <dc:subject/>
  <dc:title>PowerPoint Presentation</dc:title>
</cp:coreProperties>
</file>